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0E10-D94E-4D47-9027-1219081D9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0669-43E9-4965-A6C2-9D772EBCEE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038-EDCC-48B0-B7B8-4351B87B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CA7-3E31-4F8E-9BF3-860C8E67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015F-5046-4F08-893B-D48BF7B8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E849-87FD-4050-B547-CAF1103C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4AF-A47C-4853-B8DD-CFE835B1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5DD-AB93-4A23-8D48-E4BEFBE9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A129-5474-468A-9CA9-1CD19B7D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F77-5954-4C1A-844E-A9D20115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F6E-5F91-49B4-B9CC-EF33A4B9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E03-F807-47D0-8FFD-0C7A47FC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309B-AAD0-4E0A-A767-1FE58BC1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6F7-9C3A-486D-AD44-79996005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3BA7-0914-4E58-895A-103693D026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Instrument Rating -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“Flying in the Clouds”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1066680" y="1547640"/>
            <a:ext cx="7010640" cy="46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y get an Instrument Rating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335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fly in Instrument Meterological Conditions (IMC) or under Instrument Flight Rules (IFR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fly for hire &gt; 50 miles &amp; at nigh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fly above 18,000 fee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962520" y="1981080"/>
            <a:ext cx="48243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taining your Instrument Ra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52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ust have at least 50 hours cross-country PIC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Obtain 40 hours of simulated or actual instrument time with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 hours dua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ne 250 NM cross-country under IF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p to 20 hours in an FAA approved simul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nowledge Tes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actical Tes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4267080" y="3581280"/>
            <a:ext cx="45720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st of an Instrument Ra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iper Warrior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0 hours @ $115/hr = $4600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5 hours dual @ $50/hr = $75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A Knowledge test = $8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actical test = $30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ooks &amp; Suppl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3782880" cy="2514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4724280" y="50292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~ $600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Instrument Flying Work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Content Placeholder 7" descr="enroute.JPG"/>
          <p:cNvPicPr/>
          <p:nvPr/>
        </p:nvPicPr>
        <p:blipFill>
          <a:blip r:embed="rId2"/>
          <a:stretch/>
        </p:blipFill>
        <p:spPr>
          <a:xfrm>
            <a:off x="4267080" y="3048120"/>
            <a:ext cx="4764240" cy="36288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6" descr="29 approach.JPG"/>
          <p:cNvPicPr/>
          <p:nvPr/>
        </p:nvPicPr>
        <p:blipFill>
          <a:blip r:embed="rId3"/>
          <a:stretch/>
        </p:blipFill>
        <p:spPr>
          <a:xfrm>
            <a:off x="380880" y="1066680"/>
            <a:ext cx="3733920" cy="5666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4"/>
          <a:stretch/>
        </p:blipFill>
        <p:spPr>
          <a:xfrm>
            <a:off x="4295880" y="1155600"/>
            <a:ext cx="461952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3:01:22Z</dcterms:created>
  <dc:creator> </dc:creator>
  <dc:description/>
  <dc:language>en-US</dc:language>
  <cp:lastModifiedBy>Jeremy Katz</cp:lastModifiedBy>
  <dcterms:modified xsi:type="dcterms:W3CDTF">2008-04-16T00:02:07Z</dcterms:modified>
  <cp:revision>18</cp:revision>
  <dc:subject/>
  <dc:title>The Instrument Rating -  “Flying in the Clouds”</dc:title>
</cp:coreProperties>
</file>